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4.gif" ContentType="image/gif"/>
  <Override PartName="/ppt/media/image17.png" ContentType="image/png"/>
  <Override PartName="/ppt/media/image9.gif" ContentType="image/gif"/>
  <Override PartName="/ppt/media/explode.wav" ContentType="audio/x-wav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3.png" ContentType="image/png"/>
  <Override PartName="/ppt/media/applause.wav" ContentType="audio/x-wav"/>
  <Override PartName="/ppt/media/image12.gif" ContentType="image/gif"/>
  <Override PartName="/ppt/media/image18.gif" ContentType="image/gif"/>
  <Override PartName="/ppt/media/image16.gif" ContentType="image/gif"/>
  <Override PartName="/ppt/media/whoosh.wav" ContentType="audio/x-wav"/>
  <Override PartName="/ppt/media/voltage.wav" ContentType="audio/x-wav"/>
  <Override PartName="/ppt/media/image15.gif" ContentType="image/gif"/>
  <Override PartName="/ppt/media/image13.gif" ContentType="image/gif"/>
  <Override PartName="/ppt/media/push.wav" ContentType="audio/x-wav"/>
  <Override PartName="/ppt/media/image11.gif" ContentType="image/gif"/>
  <Override PartName="/ppt/media/image1.jpeg" ContentType="image/jpeg"/>
  <Override PartName="/ppt/media/image2.png" ContentType="image/png"/>
  <Override PartName="/ppt/media/suction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D9C-79C5-4D22-B90A-22C45893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520-0F37-481B-9DF9-5F874789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1E9-DDCA-44B8-99A5-2E4F7057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DBC-0CAC-4F35-8D3C-8359C3AF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679A-C1C9-40B4-B6C0-345257EC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F46F-0AE4-4030-BCC6-951B0FEA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588A-94C5-48D0-932A-331E381F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F6B7-181C-42AC-94F0-CEE440C0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4C1E-8902-487B-A092-02FB4097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51FD-6892-41A3-98C3-006FF88B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E485-81BC-43FA-A135-4959B2BE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FC8-B542-4E58-BCF9-B46C838C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A0DC-A39E-4735-AC91-A45C3759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04B6-666D-4B59-96FF-B8D3E192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ACAF-F992-4420-B67F-15EBDF7A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43D3-A905-4859-B507-5202EB508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3D65-330A-4730-B3C1-29D70BA3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E422-497C-4A07-8213-50D944AB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5434-BD30-42E0-8D78-1ECA215B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EDC34-CFC1-4790-ADCC-505DA4E1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6226-4FD3-475E-9105-23725028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C87A8-8091-4276-B242-B6429581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FB6-9EF7-4D8B-8F5D-D313B5BC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D8200-77DD-4B7A-9075-7732C282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4D3A-298D-4CA7-9D56-40A51E8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208D-B334-4C50-9938-1876E80A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A7014-243F-4E6D-A973-9F23CD1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1C30E-DE3E-44FC-8174-BF359124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4B31-1CD0-4F31-8A01-FF18C71B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9F328-1256-444F-B382-DCCC770F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24768-2D02-4E40-AAED-BB6042B9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04EC-E619-4042-B4C7-35841B6D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16368-F642-45F6-A4CF-7DFF8728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F0A-718C-40C0-B71C-B6C9D01C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78DF-71F6-4B17-A4BB-AD6310BE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2E58-069D-4A74-8A3A-118E1C04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80A30-A5F3-47E3-9CCC-6D32F976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F3809-96A2-4875-BBEF-93F473A5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BEB9-9F5D-49C6-8A26-6737AE68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4EA6E-0C36-47B2-83E0-3CA8395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4BC9-7295-45B7-9BF4-E18CB217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65AA9-B5BB-43A3-AE84-A3905B97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AAFB-B3C8-45A8-915F-911A5667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645-F87A-4F3B-B6CC-18C182CE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881-85DE-443F-A903-D3A255B3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C90-5A83-42BD-B132-BFD7B087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8A8-8E85-4E43-8108-AA2CA22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2DED-5A55-49BD-B585-B10FDB8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3D3F-22D7-48AB-B9F0-873F2C1552E5}" type="slidenum">
              <a:rPr b="0" lang="en-US" sz="1200" spc="-1" strike="noStrike">
                <a:solidFill>
                  <a:srgbClr val="cce1f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2CF2-C288-4ABC-AC75-FF03B2B9FCA0}" type="slidenum">
              <a:rPr b="0" lang="en-US" sz="1200" spc="-1" strike="noStrike">
                <a:solidFill>
                  <a:srgbClr val="cce1f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1684-4432-4734-A707-73C2DDC1A8FF}" type="slidenum">
              <a:rPr b="0" lang="en-US" sz="1200" spc="-1" strike="noStrike">
                <a:solidFill>
                  <a:srgbClr val="cce1f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21BB-67D8-48EC-9091-41A4CF08D74B}" type="slidenum">
              <a:rPr b="0" lang="en-US" sz="1200" spc="-1" strike="noStrike">
                <a:solidFill>
                  <a:srgbClr val="cce1f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osoq.com/" TargetMode="External"/><Relationship Id="rId3" Type="http://schemas.openxmlformats.org/officeDocument/2006/relationships/image" Target="../media/image18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ses3:81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sesftw.org/" TargetMode="External"/><Relationship Id="rId2" Type="http://schemas.openxmlformats.org/officeDocument/2006/relationships/hyperlink" Target="http://allsaintsupperschoollibrary.blogspo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-23760" y="835200"/>
            <a:ext cx="9253440" cy="251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MMj03547280000[1]"/>
          <p:cNvPicPr/>
          <p:nvPr/>
        </p:nvPicPr>
        <p:blipFill>
          <a:blip r:embed="rId2"/>
          <a:stretch/>
        </p:blipFill>
        <p:spPr>
          <a:xfrm>
            <a:off x="3733920" y="4267080"/>
            <a:ext cx="1981080" cy="1895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MMj03033040000[1]"/>
          <p:cNvPicPr/>
          <p:nvPr/>
        </p:nvPicPr>
        <p:blipFill>
          <a:blip r:embed="rId3"/>
          <a:stretch/>
        </p:blipFill>
        <p:spPr>
          <a:xfrm>
            <a:off x="6324480" y="419112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MMj03180690000[1]"/>
          <p:cNvPicPr/>
          <p:nvPr/>
        </p:nvPicPr>
        <p:blipFill>
          <a:blip r:embed="rId4"/>
          <a:stretch/>
        </p:blipFill>
        <p:spPr>
          <a:xfrm>
            <a:off x="762120" y="4038480"/>
            <a:ext cx="2133360" cy="20113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What else is in the library?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Newspap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Copier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tapler, tape, scissors,  etc. behind the circulation desk by printers – if these items go missing then they are gone for good - please return items after you use them!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Quiet study room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tudent information board in study room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28" descr="C:\Documents and Settings\kmoore.ASESCHOOL\Local Settings\Temporary Internet Files\Content.IE5\MZT9ON6X\MMj03546080000[1].gif"/>
          <p:cNvPicPr/>
          <p:nvPr/>
        </p:nvPicPr>
        <p:blipFill>
          <a:blip r:embed="rId1"/>
          <a:stretch/>
        </p:blipFill>
        <p:spPr>
          <a:xfrm>
            <a:off x="4800600" y="2895480"/>
            <a:ext cx="2438280" cy="152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9" descr="C:\Documents and Settings\kmoore.ASESCHOOL\Local Settings\Temporary Internet Files\Content.IE5\OHJRE0PY\MMj03546210000[1].gif"/>
          <p:cNvPicPr/>
          <p:nvPr/>
        </p:nvPicPr>
        <p:blipFill>
          <a:blip r:embed="rId2"/>
          <a:stretch/>
        </p:blipFill>
        <p:spPr>
          <a:xfrm>
            <a:off x="6095880" y="4648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0" descr="C:\Documents and Settings\kmoore.ASESCHOOL\Local Settings\Temporary Internet Files\Content.IE5\T74ZLRR0\MMj03368320000[1].gif"/>
          <p:cNvPicPr/>
          <p:nvPr/>
        </p:nvPicPr>
        <p:blipFill>
          <a:blip r:embed="rId3"/>
          <a:stretch/>
        </p:blipFill>
        <p:spPr>
          <a:xfrm>
            <a:off x="7162920" y="1981080"/>
            <a:ext cx="1809720" cy="167652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603360" y="1060560"/>
            <a:ext cx="8547120" cy="12920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157a"/>
                </a:solidFill>
                <a:latin typeface="Constantia"/>
              </a:rPr>
              <a:t>This is the one place on campus where you can come to work in THE QUIET!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157a"/>
                </a:solidFill>
                <a:latin typeface="Constantia"/>
              </a:rPr>
              <a:t>WELCOME TO THE UPPER SCHOOL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9" name="Picture 6" descr="Caricatu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1148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4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Library</a:t>
            </a: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Rules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 food or drink in the librar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 Study hall pass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 computer games, Facebook, or videos during the school day at all!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Picture 12" descr="C:\Documents and Settings\kmoore.ASESCHOOL\Local Settings\Temporary Internet Files\Content.IE5\MZT9ON6X\MMAG00489_0000[1].gif"/>
          <p:cNvPicPr/>
          <p:nvPr/>
        </p:nvPicPr>
        <p:blipFill>
          <a:blip r:embed="rId1"/>
          <a:stretch/>
        </p:blipFill>
        <p:spPr>
          <a:xfrm>
            <a:off x="6095880" y="-990720"/>
            <a:ext cx="2229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  <p:sndAc>
      <p:stSnd>
        <p:snd r:embed="rId2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Rules cont.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uters are for school projects on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 have a signed internet form before you acc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eck out – 20 school da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verdues - $.25 a day/per boo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ort cards held if fines not paid/ books not returne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6" descr="MMj02835350000[1]"/>
          <p:cNvPicPr/>
          <p:nvPr/>
        </p:nvPicPr>
        <p:blipFill>
          <a:blip r:embed="rId1"/>
          <a:stretch/>
        </p:blipFill>
        <p:spPr>
          <a:xfrm>
            <a:off x="5486400" y="3352680"/>
            <a:ext cx="2819520" cy="2732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To log on the computers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 will have to log on with your user name and unique passwor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ll programs will ope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arious programs will be in these folder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11" descr="C:\Documents and Settings\kmoore.ASESCHOOL\Local Settings\Temporary Internet Files\Content.IE5\HM7N6L21\MMj02840000000[1].gif"/>
          <p:cNvPicPr/>
          <p:nvPr/>
        </p:nvPicPr>
        <p:blipFill>
          <a:blip r:embed="rId1"/>
          <a:stretch/>
        </p:blipFill>
        <p:spPr>
          <a:xfrm>
            <a:off x="762120" y="2743200"/>
            <a:ext cx="3487680" cy="28195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6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Student Programs include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95280" y="2057400"/>
            <a:ext cx="381024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2007 Microsoft Word/Exc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owerpoi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Calcula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ncyclopedia Britannic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BSCOHost Database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Gale Databa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roquest Databa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ibrary Reference/Card Catalo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6" descr="C:\Documents and Settings\kmoore.ASESCHOOL\Local Settings\Temporary Internet Files\Content.IE5\T74ZLRR0\MMj02544440000[1].gif"/>
          <p:cNvPicPr/>
          <p:nvPr/>
        </p:nvPicPr>
        <p:blipFill>
          <a:blip r:embed="rId1"/>
          <a:stretch/>
        </p:blipFill>
        <p:spPr>
          <a:xfrm>
            <a:off x="1600200" y="4800600"/>
            <a:ext cx="2190600" cy="16192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Microsoft Word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You can save to the network in your own private file on the </a:t>
            </a:r>
            <a:r>
              <a:rPr b="1" lang="en-US" sz="2000" spc="-1" strike="noStrike">
                <a:solidFill>
                  <a:srgbClr val="ea157a"/>
                </a:solidFill>
                <a:latin typeface="Constantia"/>
              </a:rPr>
              <a:t>H: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driv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Do not save to the desktop – it will disappea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Macs work a bit differently especially when saving and opening documents. See me for help saving on the iMacs – you will lose your work if you do not save correctly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rs. Moore </a:t>
            </a:r>
            <a:r>
              <a:rPr b="1" lang="en-US" sz="2000" spc="-1" strike="noStrike">
                <a:solidFill>
                  <a:srgbClr val="ea157a"/>
                </a:solidFill>
                <a:latin typeface="Constantia"/>
              </a:rPr>
              <a:t>highly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ecommends Zip/Flash driv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ll information is “dumped” at each year en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Picture 7" descr="C:\Documents and Settings\kmoore.ASESCHOOL\Local Settings\Temporary Internet Files\Content.IE5\HM7N6L21\MMAG00280_0000[1].gif"/>
          <p:cNvPicPr/>
          <p:nvPr/>
        </p:nvPicPr>
        <p:blipFill>
          <a:blip r:embed="rId1"/>
          <a:stretch/>
        </p:blipFill>
        <p:spPr>
          <a:xfrm>
            <a:off x="5562720" y="2362320"/>
            <a:ext cx="3244680" cy="297180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Printing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e sure you </a:t>
            </a:r>
            <a:r>
              <a:rPr b="1" lang="en-US" sz="2200" spc="-1" strike="noStrike">
                <a:solidFill>
                  <a:srgbClr val="ea157a"/>
                </a:solidFill>
                <a:latin typeface="Constantia"/>
              </a:rPr>
              <a:t>know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where you are printing your work. Look at the drop down arrow to select a printer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re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are </a:t>
            </a:r>
            <a:r>
              <a:rPr b="1" lang="en-US" sz="2800" spc="-1" strike="noStrike">
                <a:solidFill>
                  <a:srgbClr val="ea157a"/>
                </a:solidFill>
                <a:latin typeface="Constantia"/>
              </a:rPr>
              <a:t>3</a:t>
            </a:r>
            <a:r>
              <a:rPr b="0" lang="en-US" sz="2200" spc="-1" strike="noStrike">
                <a:solidFill>
                  <a:srgbClr val="ea157a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rinters in the Library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 Library Copi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 Library Printer 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 Library Printer 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e do not have a color printer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2" descr="C:\Users\kmoore.ASESCHOOL.001\AppData\Local\Microsoft\Windows\Temporary Internet Files\Content.IE5\3C63H73V\MM900163119[1].gif"/>
          <p:cNvPicPr/>
          <p:nvPr/>
        </p:nvPicPr>
        <p:blipFill>
          <a:blip r:embed="rId1"/>
          <a:stretch/>
        </p:blipFill>
        <p:spPr>
          <a:xfrm>
            <a:off x="5486400" y="2438280"/>
            <a:ext cx="3054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072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Upper School Card Catalog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Over 9,500 book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Reference section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Bookbag your selection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Easy to find it on the shelf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Prints out in MLA forma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alibri"/>
              </a:rPr>
              <a:t>The Library is on the All Saints’ Website @ </a:t>
            </a:r>
            <a:r>
              <a:rPr b="0" lang="en-US" sz="4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www.asesftw.org</a:t>
            </a:r>
            <a:endParaRPr b="0" lang="en-US" sz="4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3011040"/>
            <a:ext cx="77724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pper School and Lower/Middle School Libra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nect to the databases, encyclopedia, and card catalo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LA style manua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ctiona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 Saints’ Upper School Library Blog @ </a:t>
            </a:r>
            <a:r>
              <a:rPr b="0" lang="en-US" sz="2400" spc="-1" strike="noStrike" u="sng">
                <a:solidFill>
                  <a:srgbClr val="eb8803"/>
                </a:solidFill>
                <a:uFillTx/>
                <a:latin typeface="Constantia"/>
                <a:hlinkClick r:id="rId2"/>
              </a:rPr>
              <a:t>http://allsaintsupperschoollibrary.blogspot.com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8:39:08Z</dcterms:created>
  <dc:creator>Allsaints</dc:creator>
  <dc:description/>
  <dc:language>en-US</dc:language>
  <cp:lastModifiedBy>kmoore</cp:lastModifiedBy>
  <dcterms:modified xsi:type="dcterms:W3CDTF">2011-08-29T19:46:12Z</dcterms:modified>
  <cp:revision>86</cp:revision>
  <dc:subject/>
  <dc:title>Freshman Introduction to the Library</dc:title>
</cp:coreProperties>
</file>